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2C0-D155-4DAF-9621-708FAE93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200-4BF1-413E-B039-12F46723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8BC-907F-4BD6-9105-5B68F233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694-50BC-4E22-B12F-38429A6C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D6B-7155-4BE6-B88C-7B515F2E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5A1-991E-489B-950A-396B7C62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6579-246F-4F58-A9B4-1399624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A12-88ED-491A-912B-7AA10FD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D4D-CDE6-4E95-A913-3B08A86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26C-EAF1-4A5B-A6FB-ECA4613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948-43BF-42C9-BB85-4AE43AB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1B9-799D-4B3A-A4F9-1A31218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9A257-1BD2-4FAA-95FF-C4D8E7D37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4079880" y="1523880"/>
            <a:ext cx="48848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етен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 смысла к документаци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65680" y="4300560"/>
            <a:ext cx="437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Методический семин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28.12.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Управление 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556160" y="2462040"/>
            <a:ext cx="4038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228600" y="1657440"/>
            <a:ext cx="830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мпетенц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пособность применять знания, ум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ные качества для успешной деятельности в определенн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90520" y="285444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формировать компетенц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значит выработать готовность, способность к конкретному действию, найти новый способ действия в нестандартной ситуации, иметь ценностную ориен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01760" y="4433760"/>
            <a:ext cx="831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спорт компетен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обоснованная совокупность вузовских требований к уровню сформированности компетенции по окончанию освоения основной профессиональ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31920" y="222120"/>
            <a:ext cx="47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н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31920" y="222120"/>
            <a:ext cx="47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уктура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85760" y="1265040"/>
            <a:ext cx="8772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труктуре компетенции три основных компонен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ть, уметь, владеть навыками (опытом деятельно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лгоритме проектирования Карты компетенции можно выделить три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декомпозиция компетенции на «владеть навыками (опытом деятельности)». «Владеть» означает комплексно применять (использовать) ранее приобретенные знания, умения и навыки для решения усложненных задач, в том числе в новых нетипич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декомпозиция «владений навыками» на «умения». «Уметь» означает решать типичные задачи на основе воспроизведения стандартных алгоритмов решения. «Навыки» означают умение, доведенное до автомат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4943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определение необходимого и достаточного объема теоретических и прикладных знаний, обеспечивающих формирование определенных на предыдущих этапах умений и владений навыками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31920" y="222120"/>
            <a:ext cx="51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мер декомпозиции 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6680" y="1066680"/>
          <a:ext cx="8701200" cy="5623200"/>
        </p:xfrm>
        <a:graphic>
          <a:graphicData uri="http://schemas.openxmlformats.org/drawingml/2006/table">
            <a:tbl>
              <a:tblPr/>
              <a:tblGrid>
                <a:gridCol w="1301760"/>
                <a:gridCol w="2478240"/>
                <a:gridCol w="4921200"/>
              </a:tblGrid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ировка компет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каторы достижения компетенции (для планирования результатов обучения по элементам образовательной программы и соответствующих оценочных сред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2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К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демонстрировать представление об истории, современном состоянии и перспективах развития филологии в целом и ее конкретной области с учетом направленности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ткую историю филологии, ее современное состояние и перспективы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уществлять первичный сбор и анализ языкового и (или) литературного материала, интерпретировать различные явления филологии, рассматривать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лологические проблемы в историческом контек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еет навыками (опытом деятельности)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ы с языковым и литературным материалом, научным наследием ученых-филоло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31920" y="222120"/>
            <a:ext cx="51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мер декомпозиции 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6680" y="1066680"/>
          <a:ext cx="8701200" cy="5623200"/>
        </p:xfrm>
        <a:graphic>
          <a:graphicData uri="http://schemas.openxmlformats.org/drawingml/2006/table">
            <a:tbl>
              <a:tblPr/>
              <a:tblGrid>
                <a:gridCol w="1301760"/>
                <a:gridCol w="2478240"/>
                <a:gridCol w="4921200"/>
              </a:tblGrid>
              <a:tr h="99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улировка компет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каторы достижения компетенции (для планирования результатов обучения по элементам образовательной программы и соответствующих оценочных сред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поддерживать должный уровень физической подготовленности для обеспечения полноценной социальной и профессиональ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_Б.УК-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олжный уровень физической подготовленности для обеспечения полноценной социальной и профессиональной деятельности и соблюдает нормы здорового образа жиз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_Б.УК-7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ует основы физической культуры для осознанного выбора здоровьесберегающих технологий с учетом внутренних и внешних условий реализации конкретной профессиональн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31920" y="222120"/>
            <a:ext cx="51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мер формул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906480" y="1052640"/>
            <a:ext cx="7072200" cy="569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0" y="179280"/>
            <a:ext cx="63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ровни сформированности 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0" y="1145880"/>
            <a:ext cx="88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роговый (базов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й является обязательным уровнем по отношению 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м студентам к моменту завершения ими обучения по ОПОП. Пороговый уровень предполагает отражение тех ожидаемых результатов, которые определяют минимальный и достаточный набор знаний, умений и навыков для решения типовых профессиональных задач в соответствии с уровнем квалификации «бакалавр», «специалист», «магист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ный (продвинутый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й превосходит пороговый уровень по одном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нескольким существенным признакам. Повышенный уровень предполагает способность выпускника вуза самостоятельно использовать потенциал интегрированных знаний, умений и навыков для решения профессиональных задач повышенной сложности с учетом существующих усло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ысокий (превосходный)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й превосходит пороговый уровень по все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енным признакам, предполагает максимально возможную выраженность компетенции. Высокий уровень предполагает способность выпускника творчески решать любые профессиональные задачи, определённые в рамках формируемой деятельности, самостоятельно осуществлять поиск новых подходов для решения профессиональных задач, комбинировать и преобразовывать ранее известны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решения профессиональных задач применительно к существующим усло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0" y="735120"/>
            <a:ext cx="63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рта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93680" y="986760"/>
            <a:ext cx="87566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ТА КОМПЕТЕН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Шифр и название КОМПЕТЕН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Общая характеристика компет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ывается тип компетенции и уровень высш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Планируемые результаты обучения, характеризующие этапы формирования компетенции, и критерии их оцен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63520" y="3089160"/>
          <a:ext cx="8686800" cy="2287800"/>
        </p:xfrm>
        <a:graphic>
          <a:graphicData uri="http://schemas.openxmlformats.org/drawingml/2006/table">
            <a:tbl>
              <a:tblPr/>
              <a:tblGrid>
                <a:gridCol w="2332080"/>
                <a:gridCol w="2117520"/>
                <a:gridCol w="2117880"/>
                <a:gridCol w="2119320"/>
              </a:tblGrid>
              <a:tr h="280080">
                <a:tc rowSpan="2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ируемые результаты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казатели освоения компетен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 оценивания результатов обу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огов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е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"/>
          <p:cNvSpPr/>
          <p:nvPr/>
        </p:nvSpPr>
        <p:spPr>
          <a:xfrm>
            <a:off x="292320" y="5528160"/>
            <a:ext cx="75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 Итоговый контроль сформированности компетенции у обучающего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6000" y="5999400"/>
            <a:ext cx="54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Матрица поэтапного формирования компете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336600" y="1382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а компет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754200" y="1595520"/>
            <a:ext cx="7677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0" y="735120"/>
            <a:ext cx="63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арта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5120" y="1371600"/>
          <a:ext cx="8686800" cy="4610160"/>
        </p:xfrm>
        <a:graphic>
          <a:graphicData uri="http://schemas.openxmlformats.org/drawingml/2006/table">
            <a:tbl>
              <a:tblPr/>
              <a:tblGrid>
                <a:gridCol w="2330640"/>
                <a:gridCol w="2117520"/>
                <a:gridCol w="2119320"/>
                <a:gridCol w="2119320"/>
              </a:tblGrid>
              <a:tr h="245160">
                <a:tc rowSpan="2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нируемые результаты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казатели освоения компетен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 оценивания результатов об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огов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596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еет теоретическое представление о …; знает терминологию…..; называет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монстрирует глубокие знания…; оперирует специальной научной терминологией…; имеет научные представления о 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монстрирует глубокие знания…; легко оперирует специальной научной терминологией…; критически подходит к анализу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разрабатывать …по образцу; способен выполнять … по заданному алгорит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творчески подойти к разработке …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самостоятельно разрабатывать/выполнять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самостоятельно создавать/разрабатывать…; проводить анализ…; способен выбирать оптимальное ре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9640"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е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организовать по заданному алгоритму….; способен обрабатывать результаты по алгорит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собен самостоятельно организовать/провести…; самостоятельно обрабатывать результаты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т новые подходы к организации …; способен разрабатывать инновационную …; способен проводить экспертизу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Прямоугольник 10"/>
          <p:cNvSpPr/>
          <p:nvPr/>
        </p:nvSpPr>
        <p:spPr>
          <a:xfrm>
            <a:off x="336600" y="1382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мер заполнения уров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31T11:24:23Z</dcterms:created>
  <dc:creator>RePack by Diakov</dc:creator>
  <dc:description/>
  <dc:language>en-US</dc:language>
  <cp:lastModifiedBy>User</cp:lastModifiedBy>
  <dcterms:modified xsi:type="dcterms:W3CDTF">2018-01-11T08:23:31Z</dcterms:modified>
  <cp:revision>379</cp:revision>
  <dc:subject/>
  <dc:title>Презентация PowerPoint</dc:title>
</cp:coreProperties>
</file>